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402-B308-4E78-8830-DCD2103C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87B-68CD-4B75-BCDC-A58E26AD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2C6-867B-41F8-B565-DEA0E28A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C68-44E9-47B1-811F-E13BD072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F17B-3AAE-4400-A9DD-CBBE46AF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6ED6-08C3-4016-B162-3808D77B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A331-6448-42AB-9272-C2A81A25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467C-54D8-4A71-A8EE-AAB1AC94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17A5-EABF-4D32-B20C-37C50AD9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BABC-9A62-4196-A5E7-F961CE54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DB2-FFCD-478C-8657-4246D75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3F0-602E-4475-B3EA-B81BF528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C2E2-B827-44DC-AB86-2446165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1F8E-E0EB-4FC9-AEC7-F12D08DD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8C1C-0263-4859-8BF1-1D29721E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42A0-C901-428F-8A42-0EC24096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038A-E48D-4C81-AC83-F6B2C98A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8B6-33C7-433B-8BC0-D2E0C42E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FE5-E0BF-42FC-AEF4-DDDE5FA6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746-C5AB-4D0F-8808-24A0CF0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C1C-514A-4846-BA4F-15C35F5B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8F4-FADC-47CB-B9B1-E49B41D5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F86-60DA-4545-B9B2-4BE7A05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A55-C2D8-4A40-B26C-B427C036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35AC-3FE7-4D3C-8CE4-5673AABF3D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28D6-8208-4281-8AB2-1E6F9E5A29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lbertus Extra Bold"/>
              </a:rPr>
              <a:t>The Constitu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System of Government, Fundamental &amp; Supreme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Legislative Branch (Article I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Congress: Senate &amp;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mak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power of the pur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taxation (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approv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egulate interstate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oin money &amp; se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approve appointments &amp; treaties (Sen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declar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34560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Executive Branch (Article II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President, heads of departments, federal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reserve, protect, and defend the Constitu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enfor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veto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egotiate tre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ational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appoint officials (Supreme Court just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20480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Judicial Branch (Article III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federal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9 justices, including 1 Chief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appointed by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approved by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judicial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judicial review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onstitutionality of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Marbury v. Madison (18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2816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Law-Mak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bertus Medium"/>
              </a:rPr>
              <a:t>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eparate bills each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one combined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imple majority both houses to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7972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Law-Making Process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bertus Medium"/>
              </a:rPr>
              <a:t>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ign: bill become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veto: bill goes back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ocket veto: bill d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22669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Law-Making Process 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bertus Medium"/>
              </a:rPr>
              <a:t>Congress (in the event of a veto by Presi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must re-pass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2/3 majority each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if 2/3, bill become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if not, dead or back to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71800" y="4848120"/>
            <a:ext cx="30621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The Bill of Righ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lbertus Medium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ten amend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ersonal freedoms &amp;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justice &amp; legal prot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owers not given to government remain with people &amp;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651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Amendment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hanges can be made only by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onstitution amended only 27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1)  amendment can be propos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2/3 majority vote of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onstitutional convention called by 2/3 of state legislatures (never happe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2) Archivist of US submits to governors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governors give to state legislatures for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3) ¾ states (38/50) must ratify to make part of the Constitution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18158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“</a:t>
            </a: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We the People . . . .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fundamental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ontract among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an be changed on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by amend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486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Constitutional Conv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May 25-September 17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hiladelphia’s Independence 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James Madison: “Father of the Constitu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Washington presided (symbol of un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Virginia P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ew Jersey P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71800" y="4645080"/>
            <a:ext cx="3363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“</a:t>
            </a: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Themes” of the Conv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Liberty vs. Order (Shays’s Rebe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minority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tyranny of the maj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executiv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trong central government vs. states’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mall vs. larg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88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Compromi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Great Compromise: re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mall states: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large states: based up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lbertus Medium"/>
              </a:rPr>
              <a:t>Deal: Senate equal (2/per state), House by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3/5s Compromise: how should slaves be counted for representation &amp; tax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rth: just  for t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outh: just for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lbertus Medium"/>
              </a:rPr>
              <a:t>Deal: “others” counted as 3/5 of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0" y="-304920"/>
            <a:ext cx="21016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lbertus Extra Bold"/>
              </a:rPr>
              <a:t>Federalists vs. Anti-Federa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Feder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Federalist Papers” (Hamilton, Madison, J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romised Antis bill of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Jefferson &amp; Adam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Antis (Patrick Hen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lack of bill of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o alternativ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0653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Ratificatio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ower of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pecial reps elected to constitutional conventions i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eed ¾ of states (9/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ountry split about 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greater political &amp; organizational abilities of Feder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Antis had no alternativ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Delaware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lbertus Medium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to ra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onstitution ratified June 21, 17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343400" y="152280"/>
            <a:ext cx="1825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Principles of the Constit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Enlightenment/Classical Greco-Roman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balanced government: all classes/interests re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limi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fede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3581280"/>
            <a:ext cx="4040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lbertus Extra Bold"/>
              </a:rPr>
              <a:t>Principles of the Constitution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Three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Legis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Exec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Judici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eparation of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hecks &amp;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00600" y="3581280"/>
            <a:ext cx="4040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31:35Z</dcterms:created>
  <dc:creator>epilla</dc:creator>
  <dc:description/>
  <dc:language>en-US</dc:language>
  <cp:lastModifiedBy>epilla</cp:lastModifiedBy>
  <dcterms:modified xsi:type="dcterms:W3CDTF">2009-11-07T18:54:29Z</dcterms:modified>
  <cp:revision>6</cp:revision>
  <dc:subject/>
  <dc:title>The Constitution</dc:title>
</cp:coreProperties>
</file>